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61E-FA49-43A1-89BF-CF3B85A8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6F1-AE4C-4979-8EF0-C0ED02E1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3B4-5150-4D89-BB9D-EBD06F01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C7C-94E5-49AB-B89C-68DEA68C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32D-E67F-4E3F-A201-DEF4B9FF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368-EDC6-48DC-B416-62AD50A3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0F7-EE11-485E-B650-336274A8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A9A-9905-42BA-B7BC-EE8A56CE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09B-4942-4B68-B53F-5216F9C6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999-1759-4CB2-BCDF-A120515E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13F-55A0-4935-876C-03EA71D2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288-1BF9-4D27-8E5B-CBFB2684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F4C7-A301-4ECA-8D71-84F855AE6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36640" y="2890800"/>
          <a:ext cx="4545000" cy="3130560"/>
        </p:xfrm>
        <a:graphic>
          <a:graphicData uri="http://schemas.openxmlformats.org/drawingml/2006/table">
            <a:tbl>
              <a:tblPr/>
              <a:tblGrid>
                <a:gridCol w="2082960"/>
                <a:gridCol w="2462040"/>
              </a:tblGrid>
              <a:tr h="3747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е питом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ская св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м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п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6521400" y="425520"/>
            <a:ext cx="5137200" cy="3390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5:54:46Z</dcterms:created>
  <dc:creator>Пользователь Windows</dc:creator>
  <dc:description/>
  <dc:language>en-US</dc:language>
  <cp:lastModifiedBy>Слава</cp:lastModifiedBy>
  <dcterms:modified xsi:type="dcterms:W3CDTF">2019-08-25T19:54:34Z</dcterms:modified>
  <cp:revision>3</cp:revision>
  <dc:subject/>
  <dc:title>Презентация PowerPoint</dc:title>
</cp:coreProperties>
</file>